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449E-83BD-40BC-A754-7DE8C222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2716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B66-891F-480F-B61B-F94F61C3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23532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7020-9D9B-4A8D-AA06-FD40F430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1220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9616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1220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9616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56D-C5AB-4EE3-B1AC-88B3C37F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05CA-EF6D-4799-AF79-477B8430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5980-27AE-425F-B763-E8A8F132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5779-AC83-48B6-98BD-E64331A5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E5D4-5BFB-4B8C-B27C-28EA55C8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2A8A-9F27-463F-8B67-44EB0A14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7B73-A24A-4EF1-A177-D5FBD45E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3BAC-1859-4B93-9499-CABB937B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9072-5F85-4324-BB01-A4DC585D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3532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CE71-D49C-444D-ACCA-9D6921B9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EB78-A027-4290-8BD2-5429DABB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2716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E42E-7401-4E0D-B82C-B8B1C62D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23532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946E-4AB1-4F54-BBBE-20A88FDB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1220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96160" y="76212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21220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196160" y="3827160"/>
            <a:ext cx="18889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7FA4-B80E-4C21-BF81-1CEA4103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6D92-ECBC-4F3E-9252-D90BB2DA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5FC-B581-4CD9-B493-EC16F581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B43-E764-45C2-A71F-AD5B8DE4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D41-7442-430A-B3FF-DFF03F23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67B8-C78D-427C-BE5C-49A3781D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35320" y="382716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1876-0B41-4440-96A2-AE5700C1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900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35320" y="762120"/>
            <a:ext cx="2863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27160"/>
            <a:ext cx="58672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DE7-4240-484B-A9BF-EBAF97B3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4934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4BC4-CCD5-4560-BCF8-D6EA927AD0B5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580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4934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C3FD-8756-4651-A854-2C16299EF4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3580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4934"/>
                </a:solidFill>
                <a:latin typeface="Arial Black"/>
              </a:rPr>
              <a:t>Review</a:t>
            </a:r>
            <a:endParaRPr b="0" lang="en-US" sz="44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8960" y="4749840"/>
            <a:ext cx="55623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lgebra 2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ptember 6, 2007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4934"/>
                </a:solidFill>
                <a:latin typeface="Arial Black"/>
              </a:rPr>
              <a:t>Exponents</a:t>
            </a:r>
            <a:endParaRPr b="0" lang="en-US" sz="36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s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exponen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exponent indicates the number of facto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=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=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4934"/>
                </a:solidFill>
                <a:latin typeface="Arial Black"/>
              </a:rPr>
              <a:t>Order of operations</a:t>
            </a:r>
            <a:endParaRPr b="0" lang="en-US" sz="36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renthes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onen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ltiplication/Divis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ddition/Subtrac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4934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s section is designed for reviewing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raction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gned number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peration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perties of Addition and Multipl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ponen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der of Operation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4934"/>
                </a:solidFill>
                <a:latin typeface="Arial Black"/>
              </a:rPr>
              <a:t>Equivalent fractions…</a:t>
            </a: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re fractions whose numerator and denominator can be divided by a whole non-zero number so that the two fractions are equal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9/12 is equivalent to ¾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cause (9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÷3)/(12÷3) = ¾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4934"/>
                </a:solidFill>
                <a:latin typeface="Arial Black"/>
              </a:rPr>
              <a:t>Simplifying fractions</a:t>
            </a: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o simplify fractions, either: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divide the numerator and the denominator  until they cannot be divided any further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20/330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220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÷11)/(330÷11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0/30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20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÷10)/(30÷10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/3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conduct a prime factorization and cancel out numbers which appear in both the numerator and the denominator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20/330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(11*5*2)/(11*5*3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/3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4934"/>
                </a:solidFill>
                <a:latin typeface="Arial Black"/>
              </a:rPr>
              <a:t>Multiplying fractions</a:t>
            </a: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ultiply straight across the top and straight across the botto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mplify the resulting frac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¾ * 1/12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0/33 * 3/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4934"/>
                </a:solidFill>
                <a:latin typeface="Arial Black"/>
              </a:rPr>
              <a:t>Dividing fractions</a:t>
            </a: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vert the divisor (the second fraction) and multipl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mplify where possib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/3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÷ ½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7/10 ÷ 7/3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4934"/>
                </a:solidFill>
                <a:latin typeface="Arial Black"/>
              </a:rPr>
              <a:t>Adding and subtracting fractions</a:t>
            </a:r>
            <a:endParaRPr b="0" lang="en-US" sz="40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ou need to have a common denominator to add or subtract fractio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get a common denominator, multiply the numerator and the denominator in order to get a common denominato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½ + 1/3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/7 + 1/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4934"/>
                </a:solidFill>
                <a:latin typeface="Arial Black"/>
              </a:rPr>
              <a:t>Signed numbers</a:t>
            </a:r>
            <a:endParaRPr b="0" lang="en-US" sz="36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pposites: numbers that are the same distance from zero on the number li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bsolute value: the distance between the number and zero; this is always posi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gers: whole numbe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4934"/>
                </a:solidFill>
                <a:latin typeface="Arial Black"/>
              </a:rPr>
              <a:t>Properties of Addition and Multiplication</a:t>
            </a:r>
            <a:endParaRPr b="0" lang="en-US" sz="2800" spc="-1" strike="noStrike">
              <a:solidFill>
                <a:srgbClr val="784934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5715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mutative prop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+b = b+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*b=b*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ssociative prop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+(b+c)= (a+b)+c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*(b*c)= (a*b)*c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tributive Prop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(b+c)=ab+ac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21:22:46Z</dcterms:created>
  <dc:creator>nuhs</dc:creator>
  <dc:description/>
  <dc:language>en-US</dc:language>
  <cp:lastModifiedBy>nuhs</cp:lastModifiedBy>
  <dcterms:modified xsi:type="dcterms:W3CDTF">2007-09-06T17:55:21Z</dcterms:modified>
  <cp:revision>5</cp:revision>
  <dc:subject/>
  <dc:title>Review</dc:title>
</cp:coreProperties>
</file>